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698-2AD7-4318-A69A-F6ACDC01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B191-B765-40F5-BD59-56CD4B0B4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82D2-D26E-4167-B59A-57183456C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3B48-D0D3-4C32-9996-C9A76B0B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A047-3B55-4BF0-8163-EA316795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D552-C311-40A3-B649-4CB942DE2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073-2365-465A-BF1F-8582FB58E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3218-B58B-49B7-9191-4C6F2A0EC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887-DA27-4CF3-9BDE-0A0F3AC6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B687-4DCD-4591-9E9A-DE0225E1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A2BE-ECC1-41C3-B6C4-41702575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266A-B9E1-46A8-8CA3-0711271B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015A-980E-401E-B43A-6BE6281E09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大太天月日明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又 友文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朋友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这天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this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文人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scho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人人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</a:t>
            </a: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 =not only ___ but also 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~PP3941.WAV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朋友又好又日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宋体"/>
              </a:rPr>
              <a:t>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Documents and Settings\lsabey\Local Settings\Temporary Internet Files\Content.IE5\XSJY32GK\MPj04392480000[1].jpg"/>
          <p:cNvPicPr/>
          <p:nvPr/>
        </p:nvPicPr>
        <p:blipFill>
          <a:blip r:embed="rId1"/>
          <a:stretch/>
        </p:blipFill>
        <p:spPr>
          <a:xfrm>
            <a:off x="2438280" y="1523880"/>
            <a:ext cx="4572000" cy="4919760"/>
          </a:xfrm>
          <a:prstGeom prst="rect">
            <a:avLst/>
          </a:prstGeom>
          <a:ln w="0">
            <a:noFill/>
          </a:ln>
        </p:spPr>
      </p:pic>
      <p:pic>
        <p:nvPicPr>
          <p:cNvPr id="47" name="~PP1999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天她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老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xiang3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bang1zhu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la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5" descr="C:\Documents and Settings\lsabey\Local Settings\Temporary Internet Files\Content.IE5\XSJY32GK\MPj04075010000[1]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1" name="~PP2543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明天他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朋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xiang3 bang1zhu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wanted to help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3" descr="C:\Documents and Settings\lsabey\Local Settings\Temporary Internet Files\Content.IE5\FGJUL90C\MPj04388130000[1].jpg"/>
          <p:cNvPicPr/>
          <p:nvPr/>
        </p:nvPicPr>
        <p:blipFill>
          <a:blip r:embed="rId1"/>
          <a:stretch/>
        </p:blipFill>
        <p:spPr>
          <a:xfrm>
            <a:off x="3657600" y="28195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55" name="~PP2869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天天她 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MS PGothic"/>
              </a:rPr>
              <a:t>帮助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人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lsabey\Local Settings\Temporary Internet Files\Content.IE5\7ARHBD3L\MPj04394670000[1].jpg"/>
          <p:cNvPicPr/>
          <p:nvPr/>
        </p:nvPicPr>
        <p:blipFill>
          <a:blip r:embed="rId1"/>
          <a:stretch/>
        </p:blipFill>
        <p:spPr>
          <a:xfrm>
            <a:off x="671400" y="1523880"/>
            <a:ext cx="7558200" cy="4632480"/>
          </a:xfrm>
          <a:prstGeom prst="rect">
            <a:avLst/>
          </a:prstGeom>
          <a:ln w="0">
            <a:noFill/>
          </a:ln>
        </p:spPr>
      </p:pic>
      <p:pic>
        <p:nvPicPr>
          <p:cNvPr id="59" name="~PP3445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326240" y="1981080"/>
            <a:ext cx="4962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帮助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--hel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日</a:t>
            </a: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心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arm hea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  <a:ea typeface="宋体"/>
              </a:rPr>
              <a:t>老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人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–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ld 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~PP1637.WAV" descr=""/>
          <p:cNvPicPr/>
          <p:nvPr/>
        </p:nvPicPr>
        <p:blipFill>
          <a:blip r:embed="rId1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4:01Z</dcterms:created>
  <dc:creator>itsuser</dc:creator>
  <dc:description/>
  <dc:language>en-US</dc:language>
  <cp:lastModifiedBy>itsuser</cp:lastModifiedBy>
  <dcterms:modified xsi:type="dcterms:W3CDTF">2009-04-16T19:45:54Z</dcterms:modified>
  <cp:revision>8</cp:revision>
  <dc:subject/>
  <dc:title>人大太天月日明朋 又 友文这</dc:title>
</cp:coreProperties>
</file>